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223-E640-4C2E-B8DC-69C0D316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A2E9-A635-4D63-94A9-BA75A10BF9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4B5-92A2-4179-B4EF-D0F66A97DC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04A-4546-4862-B56A-049657280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35D-07D8-4044-8CFC-AE5B05C7D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00F-60B1-483F-8193-148F1A4B9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C11-B1F9-4AA6-8C8D-749EC28C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E30-EFF8-4C87-8E48-FC81DF1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E28-F9B7-4A0C-A584-1CE920BC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D23-66DA-4D52-BDAB-0927EDBF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41E-9D9B-4CC2-99FC-F00D88E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CB3-820A-483A-801C-91A5D0B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529-BA75-4BAF-8E67-F923518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710-8EB0-4673-8F34-67EAF718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E00-4E10-44F8-B7DC-0A8A4E0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572-E2D2-427B-B311-FF8D472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D02-D7D0-4C58-B27A-8392A28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C87-0326-4EEB-8E2C-D7C8B3A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3BC-7131-44C5-A662-EE3B0FCDF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9760" y="1294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oil pH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3733560"/>
            <a:ext cx="6705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o Pagli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Soil, Water, and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0001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Does the Soil Become Aci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Soil Acid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idic parent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of basic cations + Crop removal of 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Nitrogen fertil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- Acid rain, industrial emissions, internal combustion engines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697280" y="3657600"/>
            <a:ext cx="43704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9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313704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id Forming Fertiliz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4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2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+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H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0880" y="16765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80880" y="3454560"/>
            <a:ext cx="655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mobiliz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4114800"/>
            <a:ext cx="609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R-OH           R-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+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" name="Straight Arrow Connector 7"/>
          <p:cNvCxnSpPr/>
          <p:nvPr/>
        </p:nvCxnSpPr>
        <p:spPr>
          <a:xfrm>
            <a:off x="2819520" y="27432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Straight Arrow Connector 9"/>
          <p:cNvCxnSpPr/>
          <p:nvPr/>
        </p:nvCxnSpPr>
        <p:spPr>
          <a:xfrm flipH="1" flipV="1">
            <a:off x="2781000" y="28317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Straight Arrow Connector 10"/>
          <p:cNvCxnSpPr/>
          <p:nvPr/>
        </p:nvCxnSpPr>
        <p:spPr>
          <a:xfrm flipH="1" flipV="1">
            <a:off x="2628720" y="44193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4" name="Straight Arrow Connector 11"/>
          <p:cNvCxnSpPr/>
          <p:nvPr/>
        </p:nvCxnSpPr>
        <p:spPr>
          <a:xfrm>
            <a:off x="2666880" y="43308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5" name="Oval 12"/>
          <p:cNvSpPr/>
          <p:nvPr/>
        </p:nvSpPr>
        <p:spPr>
          <a:xfrm>
            <a:off x="5276880" y="4038480"/>
            <a:ext cx="609480" cy="6098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5504040" y="2475000"/>
            <a:ext cx="609480" cy="6094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7" name="Curved Connector 16"/>
          <p:cNvCxnSpPr>
            <a:stCxn id="95" idx="6"/>
          </p:cNvCxnSpPr>
          <p:nvPr/>
        </p:nvCxnSpPr>
        <p:spPr>
          <a:xfrm>
            <a:off x="5886360" y="4343400"/>
            <a:ext cx="1372320" cy="991440"/>
          </a:xfrm>
          <a:prstGeom prst="curvedConnector5">
            <a:avLst>
              <a:gd name="adj1" fmla="val 49986"/>
              <a:gd name="adj2" fmla="val 49981"/>
              <a:gd name="adj3" fmla="val 49986"/>
            </a:avLst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98" name="Curved Connector 19"/>
          <p:cNvCxnSpPr/>
          <p:nvPr/>
        </p:nvCxnSpPr>
        <p:spPr>
          <a:xfrm>
            <a:off x="6124320" y="2781000"/>
            <a:ext cx="2029320" cy="2019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1768320"/>
          <a:ext cx="8382240" cy="4023000"/>
        </p:xfrm>
        <a:graphic>
          <a:graphicData uri="http://schemas.openxmlformats.org/drawingml/2006/table">
            <a:tbl>
              <a:tblPr/>
              <a:tblGrid>
                <a:gridCol w="3048120"/>
                <a:gridCol w="2286000"/>
                <a:gridCol w="30481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Nitrogen Applied each year for 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Soil p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glime needed to return soil pH to 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(lbs/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(ton/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2"/>
          <p:cNvSpPr/>
          <p:nvPr/>
        </p:nvSpPr>
        <p:spPr>
          <a:xfrm>
            <a:off x="320400" y="5791320"/>
            <a:ext cx="755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rogen applied as ammonium nitrate, Walsh, L.M. 1965;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Soil was a Plano silt loam cropped to co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84120" y="434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ffect of Nitrogen Fertilizer on Soil p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lime Required to Neutralize Acid Forming N Fertiliz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2340000"/>
          <a:ext cx="8532720" cy="4206960"/>
        </p:xfrm>
        <a:graphic>
          <a:graphicData uri="http://schemas.openxmlformats.org/drawingml/2006/table">
            <a:tbl>
              <a:tblPr/>
              <a:tblGrid>
                <a:gridCol w="4489560"/>
                <a:gridCol w="4043160"/>
              </a:tblGrid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Nitrogen sou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Pounds of aglime needed per pound of Nitrogen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mmonium sulf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Diammonium phosph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nhydrous ammo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U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Solutions (28% - 41% 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mmon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pprox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1"/>
          <p:cNvPicPr/>
          <p:nvPr/>
        </p:nvPicPr>
        <p:blipFill>
          <a:blip r:embed="rId1"/>
          <a:stretch/>
        </p:blipFill>
        <p:spPr>
          <a:xfrm>
            <a:off x="609480" y="914400"/>
            <a:ext cx="794700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957400" y="61722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year old 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9696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I Need Lim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35"/>
          <p:cNvPicPr/>
          <p:nvPr/>
        </p:nvPicPr>
        <p:blipFill>
          <a:blip r:embed="rId1"/>
          <a:stretch/>
        </p:blipFill>
        <p:spPr>
          <a:xfrm>
            <a:off x="415800" y="533520"/>
            <a:ext cx="8312400" cy="541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946240" y="59436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year old 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838080" y="54309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l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838080" y="2967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Straight Arrow Connector 7"/>
          <p:cNvCxnSpPr/>
          <p:nvPr/>
        </p:nvCxnSpPr>
        <p:spPr>
          <a:xfrm>
            <a:off x="1828800" y="3429000"/>
            <a:ext cx="838800" cy="766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/>
          <p:nvPr/>
        </p:nvCxnSpPr>
        <p:spPr>
          <a:xfrm flipV="1">
            <a:off x="1828440" y="3047400"/>
            <a:ext cx="2057760" cy="153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/>
          <p:nvPr/>
        </p:nvCxnSpPr>
        <p:spPr>
          <a:xfrm flipV="1">
            <a:off x="1676520" y="4723560"/>
            <a:ext cx="762480" cy="839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 of Soil pH on Crop Yield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457200" y="1917720"/>
            <a:ext cx="820404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Picture2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360036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= – log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decreases as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increases: 0.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will have pH of 4; change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to 0.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pH will go to 3 – ACID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increases as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decreases: 0.000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will have pH of 7; change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to 0.0000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pH will go to 8 – ALKAL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ng Reaction in So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762120" y="301140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2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Straight Arrow Connector 5"/>
          <p:cNvCxnSpPr/>
          <p:nvPr/>
        </p:nvCxnSpPr>
        <p:spPr>
          <a:xfrm>
            <a:off x="3657240" y="3340080"/>
            <a:ext cx="8326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0" name="Straight Arrow Connector 7"/>
          <p:cNvCxnSpPr/>
          <p:nvPr/>
        </p:nvCxnSpPr>
        <p:spPr>
          <a:xfrm flipH="1" flipV="1">
            <a:off x="3622320" y="3420720"/>
            <a:ext cx="8388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1" name="TextBox 12"/>
          <p:cNvSpPr/>
          <p:nvPr/>
        </p:nvSpPr>
        <p:spPr>
          <a:xfrm>
            <a:off x="457200" y="112536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lcium does not change soil pH, rather changes %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oxide, hydroxide, and carbonate present in the l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e the compounds responsible for changes in soil p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438280" y="3859200"/>
            <a:ext cx="4038840" cy="277488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8"/>
          <p:cNvCxnSpPr/>
          <p:nvPr/>
        </p:nvCxnSpPr>
        <p:spPr>
          <a:xfrm flipH="1" flipV="1">
            <a:off x="3276720" y="3580560"/>
            <a:ext cx="2667240" cy="839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4" name="Straight Arrow Connector 10"/>
          <p:cNvCxnSpPr/>
          <p:nvPr/>
        </p:nvCxnSpPr>
        <p:spPr>
          <a:xfrm flipH="1" flipV="1">
            <a:off x="3276720" y="3580560"/>
            <a:ext cx="2667240" cy="1143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5" name="Straight Arrow Connector 12"/>
          <p:cNvCxnSpPr/>
          <p:nvPr/>
        </p:nvCxnSpPr>
        <p:spPr>
          <a:xfrm>
            <a:off x="5029200" y="3581280"/>
            <a:ext cx="381600" cy="14486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6" name="Curved Connector 14"/>
          <p:cNvCxnSpPr/>
          <p:nvPr/>
        </p:nvCxnSpPr>
        <p:spPr>
          <a:xfrm flipH="1">
            <a:off x="5866920" y="3581280"/>
            <a:ext cx="534240" cy="1372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7" name="Straight Arrow Connector 16"/>
          <p:cNvCxnSpPr/>
          <p:nvPr/>
        </p:nvCxnSpPr>
        <p:spPr>
          <a:xfrm flipH="1">
            <a:off x="5942880" y="3580920"/>
            <a:ext cx="1524600" cy="16772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28" name="TextBox 20"/>
          <p:cNvSpPr/>
          <p:nvPr/>
        </p:nvSpPr>
        <p:spPr>
          <a:xfrm>
            <a:off x="6553080" y="4724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H+] decreased pH 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Reaction Against pH Incr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62120" y="24382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bfbf00"/>
                </a:solidFill>
                <a:latin typeface="Times New Roman"/>
              </a:rPr>
              <a:t>2H</a:t>
            </a:r>
            <a:r>
              <a:rPr b="0" lang="en-US" sz="3600" spc="-1" strike="noStrike" baseline="30000">
                <a:solidFill>
                  <a:srgbClr val="bfbf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Straight Arrow Connector 5"/>
          <p:cNvCxnSpPr/>
          <p:nvPr/>
        </p:nvCxnSpPr>
        <p:spPr>
          <a:xfrm>
            <a:off x="3657240" y="2766600"/>
            <a:ext cx="83268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Straight Arrow Connector 7"/>
          <p:cNvCxnSpPr/>
          <p:nvPr/>
        </p:nvCxnSpPr>
        <p:spPr>
          <a:xfrm flipH="1" flipV="1">
            <a:off x="3622320" y="2866680"/>
            <a:ext cx="8388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" name="TextBox 6"/>
          <p:cNvSpPr/>
          <p:nvPr/>
        </p:nvSpPr>
        <p:spPr>
          <a:xfrm>
            <a:off x="762120" y="4078440"/>
            <a:ext cx="7696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 + 1/3A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1/3Al(OH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bfbf00"/>
                </a:solidFill>
                <a:latin typeface="Times New Roman"/>
              </a:rPr>
              <a:t>H</a:t>
            </a:r>
            <a:r>
              <a:rPr b="0" lang="en-US" sz="3600" spc="-1" strike="noStrike" baseline="30000">
                <a:solidFill>
                  <a:srgbClr val="bfbf00"/>
                </a:solidFill>
                <a:latin typeface="Times New Roman"/>
              </a:rPr>
              <a:t>+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4" name="Straight Arrow Connector 5"/>
          <p:cNvCxnSpPr/>
          <p:nvPr/>
        </p:nvCxnSpPr>
        <p:spPr>
          <a:xfrm>
            <a:off x="3844440" y="4378320"/>
            <a:ext cx="8326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Straight Arrow Connector 7"/>
          <p:cNvCxnSpPr/>
          <p:nvPr/>
        </p:nvCxnSpPr>
        <p:spPr>
          <a:xfrm flipH="1" flipV="1">
            <a:off x="3809160" y="4478040"/>
            <a:ext cx="83916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22"/>
          <p:cNvCxnSpPr/>
          <p:nvPr/>
        </p:nvCxnSpPr>
        <p:spPr>
          <a:xfrm flipH="1">
            <a:off x="1599840" y="3047760"/>
            <a:ext cx="5944320" cy="10674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Factors Determin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me Needs of a So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pH (Active acidity) – determined by soil test (pH in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fer pH (Residual acidity) – determined by soil test (pH in Siko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 pH – determined by crop and crop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falfa – 6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Clover – 6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ybean – 6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 – 6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ure – 6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ts – 5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 of Soybean, Corn, and Alfalf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ybean – 6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– 6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falfa – 6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501660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falfa is the most sensitive so the target pH for the rotation is 6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all Lime the Sam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etermines the Qualit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Rectangle 3" descr=""/>
          <p:cNvPicPr/>
          <p:nvPr/>
        </p:nvPicPr>
        <p:blipFill>
          <a:blip r:embed="rId1"/>
          <a:stretch/>
        </p:blipFill>
        <p:spPr>
          <a:xfrm>
            <a:off x="549360" y="1895400"/>
            <a:ext cx="7918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urity Factor (Ca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) Equival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Picture 3" descr="t 6-5"/>
          <p:cNvPicPr/>
          <p:nvPr/>
        </p:nvPicPr>
        <p:blipFill>
          <a:blip r:embed="rId1"/>
          <a:stretch/>
        </p:blipFill>
        <p:spPr>
          <a:xfrm>
            <a:off x="457200" y="1265400"/>
            <a:ext cx="8381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etermines the Qualit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Rectangle 3" descr=""/>
          <p:cNvPicPr/>
          <p:nvPr/>
        </p:nvPicPr>
        <p:blipFill>
          <a:blip r:embed="rId1"/>
          <a:stretch/>
        </p:blipFill>
        <p:spPr>
          <a:xfrm>
            <a:off x="549360" y="2389320"/>
            <a:ext cx="7918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2"/>
          <p:cNvPicPr/>
          <p:nvPr/>
        </p:nvPicPr>
        <p:blipFill>
          <a:blip r:embed="rId1"/>
          <a:stretch/>
        </p:blipFill>
        <p:spPr>
          <a:xfrm>
            <a:off x="368280" y="1066680"/>
            <a:ext cx="841392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article Size 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 6-2"/>
          <p:cNvPicPr/>
          <p:nvPr/>
        </p:nvPicPr>
        <p:blipFill>
          <a:blip r:embed="rId1"/>
          <a:stretch/>
        </p:blipFill>
        <p:spPr>
          <a:xfrm>
            <a:off x="2133720" y="304920"/>
            <a:ext cx="471780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52280" y="2209680"/>
            <a:ext cx="1765440" cy="7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k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981080" y="2590920"/>
            <a:ext cx="12193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3520" y="3746520"/>
            <a:ext cx="13716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81080" y="4114800"/>
            <a:ext cx="8859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858000" y="3533760"/>
            <a:ext cx="2209680" cy="703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and [A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oil 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867280" y="3886200"/>
            <a:ext cx="87660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6858000" y="2035080"/>
            <a:ext cx="2209680" cy="703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[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and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MS PGothic"/>
              </a:rPr>
              <a:t>[Al</a:t>
            </a:r>
            <a:r>
              <a:rPr b="0" lang="en-US" sz="2000" spc="-1" strike="noStrike" baseline="30000">
                <a:solidFill>
                  <a:srgbClr val="ffff66"/>
                </a:solidFill>
                <a:latin typeface="Times New Roman"/>
                <a:ea typeface="MS PGothic"/>
              </a:rPr>
              <a:t>+3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MS PGothic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n the CEC + 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410080" y="2362320"/>
            <a:ext cx="129564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hart 2" descr=""/>
          <p:cNvPicPr/>
          <p:nvPr/>
        </p:nvPicPr>
        <p:blipFill>
          <a:blip r:embed="rId1"/>
          <a:stretch/>
        </p:blipFill>
        <p:spPr>
          <a:xfrm>
            <a:off x="1092240" y="1092240"/>
            <a:ext cx="6959520" cy="551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article Size Distribution Effect on Soil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37"/>
          <p:cNvPicPr/>
          <p:nvPr/>
        </p:nvPicPr>
        <p:blipFill>
          <a:blip r:embed="rId1"/>
          <a:stretch/>
        </p:blipFill>
        <p:spPr>
          <a:xfrm>
            <a:off x="757080" y="838080"/>
            <a:ext cx="7472520" cy="48736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45720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imestone Behavior in S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844920" y="57913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xing is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t 2"/>
          <p:cNvPicPr/>
          <p:nvPr/>
        </p:nvPicPr>
        <p:blipFill>
          <a:blip r:embed="rId1"/>
          <a:stretch/>
        </p:blipFill>
        <p:spPr>
          <a:xfrm>
            <a:off x="1828800" y="304920"/>
            <a:ext cx="5867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culating the Neutralizing Index (NI) 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ex 2"/>
          <p:cNvPicPr/>
          <p:nvPr/>
        </p:nvPicPr>
        <p:blipFill>
          <a:blip r:embed="rId1"/>
          <a:stretch/>
        </p:blipFill>
        <p:spPr>
          <a:xfrm>
            <a:off x="495360" y="1717560"/>
            <a:ext cx="81532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t 6-7"/>
          <p:cNvPicPr/>
          <p:nvPr/>
        </p:nvPicPr>
        <p:blipFill>
          <a:blip r:embed="rId1"/>
          <a:stretch/>
        </p:blipFill>
        <p:spPr>
          <a:xfrm>
            <a:off x="1676520" y="3029040"/>
            <a:ext cx="5410080" cy="37036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57200" y="1905120"/>
            <a:ext cx="7162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R for pH of 6.8 = 195 – 28.4(BpH) + 0.144(W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6.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=  3.0 ton/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895480" y="4343400"/>
            <a:ext cx="4114800" cy="298440"/>
          </a:xfrm>
          <a:prstGeom prst="rect">
            <a:avLst/>
          </a:prstGeom>
          <a:noFill/>
          <a:ln w="28440">
            <a:solidFill>
              <a:srgbClr val="6a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038480" y="4343400"/>
            <a:ext cx="533520" cy="304920"/>
          </a:xfrm>
          <a:prstGeom prst="rect">
            <a:avLst/>
          </a:pr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culating Lime R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476640" y="9907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in water (WpH) = 5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in Buffer Sikora (BpH) = 6.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Should I Apply Lim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4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758880" y="1905120"/>
            <a:ext cx="41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y time you 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Picture1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ing Between Liming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tons of 50-59 NI material at $ 13/ton results in a cost per acre of $ 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ons of 80-89 NI material at $ 16/ton results in a cost per acre of $ 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eaper product may not always be the best bu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n the Soil pH be Lowered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52600" y="1060560"/>
            <a:ext cx="807696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crops may have lower optimum pH r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can be lowered by addition of acid-forming fertili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Elemental Sulfur (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S + 3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        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4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luminum Sulfate [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6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        2Al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3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2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 + 6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mmonium Nitrate (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2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          2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+ 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2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Straight Arrow Connector 4"/>
          <p:cNvCxnSpPr/>
          <p:nvPr/>
        </p:nvCxnSpPr>
        <p:spPr>
          <a:xfrm>
            <a:off x="3409920" y="35067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8" name="Straight Arrow Connector 6"/>
          <p:cNvCxnSpPr/>
          <p:nvPr/>
        </p:nvCxnSpPr>
        <p:spPr>
          <a:xfrm flipH="1" flipV="1">
            <a:off x="3371400" y="3591720"/>
            <a:ext cx="4579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7"/>
          <p:cNvCxnSpPr/>
          <p:nvPr/>
        </p:nvCxnSpPr>
        <p:spPr>
          <a:xfrm>
            <a:off x="3457440" y="483084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8"/>
          <p:cNvCxnSpPr/>
          <p:nvPr/>
        </p:nvCxnSpPr>
        <p:spPr>
          <a:xfrm flipH="1" flipV="1">
            <a:off x="3419280" y="493524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7"/>
          <p:cNvCxnSpPr/>
          <p:nvPr/>
        </p:nvCxnSpPr>
        <p:spPr>
          <a:xfrm>
            <a:off x="3247920" y="61722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8"/>
          <p:cNvCxnSpPr/>
          <p:nvPr/>
        </p:nvCxnSpPr>
        <p:spPr>
          <a:xfrm flipH="1" flipV="1">
            <a:off x="3209400" y="62766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Al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n the soil and 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422520" y="1447920"/>
            <a:ext cx="521028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909080" y="259884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" name="Straight Arrow Connector 6"/>
          <p:cNvCxnSpPr/>
          <p:nvPr/>
        </p:nvCxnSpPr>
        <p:spPr>
          <a:xfrm flipV="1">
            <a:off x="2742840" y="2209320"/>
            <a:ext cx="68652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8"/>
          <p:cNvCxnSpPr/>
          <p:nvPr/>
        </p:nvCxnSpPr>
        <p:spPr>
          <a:xfrm flipV="1">
            <a:off x="2742840" y="2666520"/>
            <a:ext cx="686520" cy="153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0"/>
          <p:cNvCxnSpPr/>
          <p:nvPr/>
        </p:nvCxnSpPr>
        <p:spPr>
          <a:xfrm>
            <a:off x="2895480" y="342864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12"/>
          <p:cNvCxnSpPr/>
          <p:nvPr/>
        </p:nvCxnSpPr>
        <p:spPr>
          <a:xfrm flipV="1">
            <a:off x="3048120" y="3238200"/>
            <a:ext cx="375120" cy="38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Rectangle 21"/>
          <p:cNvSpPr/>
          <p:nvPr/>
        </p:nvSpPr>
        <p:spPr>
          <a:xfrm>
            <a:off x="3276720" y="5867280"/>
            <a:ext cx="5715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http://www.google.com/imgres?q=soil+cation+exchange+capacity+minerals&amp;um=1&amp;hl=en&amp;sa=N&amp;biw=1323&amp;bih=958&amp;tbm=isch&amp;tbnid=8a0hUihaSm2zyM:&amp;imgrefurl=http://hubcap.clemson.edu/~blpprt/acid1.html&amp;docid=oOfnbaas8skS7M&amp;imgurl=http://hubcap.clemson.edu/~blpprt/acid_photos/Buffering2.jpg&amp;w=467&amp;h=321&amp;ei=zRqwTsqgLMGLsALT4qDjAQ&amp;zoom=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http://www.extension.umn.edu/distribution/horticulture/components/M1193fig02.htm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25280" y="3911760"/>
            <a:ext cx="3048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Times New Roman"/>
              </a:rPr>
              <a:t>Thank you for attending!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572000" y="36576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549360" y="2120760"/>
            <a:ext cx="7918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icture3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icture4"/>
          <p:cNvPicPr/>
          <p:nvPr/>
        </p:nvPicPr>
        <p:blipFill>
          <a:blip r:embed="rId1"/>
          <a:stretch/>
        </p:blipFill>
        <p:spPr>
          <a:xfrm>
            <a:off x="2475000" y="228600"/>
            <a:ext cx="4230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244440" y="2494080"/>
            <a:ext cx="8601120" cy="307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244440" y="2266920"/>
            <a:ext cx="8601120" cy="383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2:08:56Z</dcterms:created>
  <dc:creator>John Peters</dc:creator>
  <dc:description/>
  <dc:language>en-US</dc:language>
  <cp:lastModifiedBy>mwerner</cp:lastModifiedBy>
  <dcterms:modified xsi:type="dcterms:W3CDTF">2011-11-18T15:43:57Z</dcterms:modified>
  <cp:revision>151</cp:revision>
  <dc:subject/>
  <dc:title>Calcium, Magnesium and Liming</dc:title>
</cp:coreProperties>
</file>